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1C3-1D4C-4AC5-9E16-541F206B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0BA-0C39-4C91-A8CE-042E8D7F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7BA-9707-4847-8A9F-4073CF7E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311-85E7-4B9A-822A-E49FAF68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EAA-4028-48F3-87AB-EEA889CD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FFDA-412E-4C9B-8E00-9D7E6DF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75CF-4716-4B16-B9EA-3AA80DB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E480-49E8-4D07-BF0B-C7FC283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803-E9B3-4918-9E89-79D6EEC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BB2-F344-4C3F-8C7C-650EA18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706-7CF5-412D-BEEE-EAC7622B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7C4-756B-496E-ABE7-199634B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4FBF-2023-4691-92F3-E25A4CE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474-2456-4B18-8D5A-ACB9ECF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37DB-75E6-4BE1-86F0-4A9DD408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7CAD-7C02-4F51-8385-B3F6E923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1921-51EA-4886-B7FE-58E15105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B4D-083F-4F03-9BEA-D239BDC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95E-4937-470A-BF03-E4836A1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91F-3B38-4D76-A5AE-9EC89625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4BB-7064-47D1-9D89-F8B68A2B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98E-337C-4259-88FE-9C6332E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C00-F6E0-4D92-AA7B-DC6EF7B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5C8-4DE5-4E23-A80E-AF500FBA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77D-BE87-40D6-A69E-F19DA1C1EB8E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AB1-B7C5-4C5C-9AAE-B1E7E440B4B4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Terra" TargetMode="External"/><Relationship Id="rId2" Type="http://schemas.openxmlformats.org/officeDocument/2006/relationships/hyperlink" Target="http://pt.wikipedia.org/wiki/Espa&#231;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Rota&#231;&#227;o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Transla&#231;&#227;o_da_Terra" TargetMode="External"/><Relationship Id="rId2" Type="http://schemas.openxmlformats.org/officeDocument/2006/relationships/hyperlink" Target="http://pt.wikipedia.org/wiki/So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ld English Text MT"/>
              </a:rPr>
              <a:t>ESCOLA ESTADUAL SENADOR FILINTO MÜLLER EXTENSÃ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Old English Text MT"/>
              </a:rPr>
              <a:t>JACKSON E AMAND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OS MOVIMENTOS DA TER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Os </a:t>
            </a:r>
            <a:r>
              <a:rPr b="1" lang="pt-PT" sz="3200" spc="-1" strike="noStrike">
                <a:solidFill>
                  <a:srgbClr val="ffcc00"/>
                </a:solidFill>
                <a:latin typeface="Chiller"/>
              </a:rPr>
              <a:t>movimentos da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Chiller"/>
                <a:hlinkClick r:id="rId1"/>
              </a:rPr>
              <a:t>Terra</a:t>
            </a: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 são os movimentos simultâneos realizados pela Terra no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Chiller"/>
                <a:hlinkClick r:id="rId2"/>
              </a:rPr>
              <a:t>espaço</a:t>
            </a: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. Existem ao todo cinco movimentos principai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agneto"/>
              </a:rPr>
              <a:t>ROTAÇÃ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ff3399"/>
                </a:solidFill>
                <a:uFillTx/>
                <a:latin typeface="Magneto"/>
                <a:hlinkClick r:id="rId1"/>
              </a:rPr>
              <a:t>Rotação</a:t>
            </a:r>
            <a:r>
              <a:rPr b="0" lang="pt-PT" sz="2800" spc="-1" strike="noStrike">
                <a:solidFill>
                  <a:srgbClr val="ffcc00"/>
                </a:solidFill>
                <a:latin typeface="Magneto"/>
              </a:rPr>
              <a:t> - A Terra gira em torno de si mesma, em torno de seu eixo imaginário. A duração da rotação é de 24 hora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RANSLAÇÃ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ff3399"/>
                </a:solidFill>
                <a:uFillTx/>
                <a:latin typeface="Blackadder ITC"/>
                <a:hlinkClick r:id="rId1"/>
              </a:rPr>
              <a:t>Translação</a:t>
            </a:r>
            <a:r>
              <a:rPr b="0" lang="pt-PT" sz="3200" spc="-1" strike="noStrike">
                <a:solidFill>
                  <a:srgbClr val="ffcc00"/>
                </a:solidFill>
                <a:latin typeface="Blackadder ITC"/>
              </a:rPr>
              <a:t> - é o movimento que a Terra executa ao redor do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Blackadder ITC"/>
                <a:hlinkClick r:id="rId2"/>
              </a:rPr>
              <a:t>Sol</a:t>
            </a:r>
            <a:r>
              <a:rPr b="0" lang="pt-PT" sz="3200" spc="-1" strike="noStrike">
                <a:solidFill>
                  <a:srgbClr val="ffcc00"/>
                </a:solidFill>
                <a:latin typeface="Blackadder ITC"/>
              </a:rPr>
              <a:t>; leva um tempo total aproximado de 365 dias e 6 horas até que</a:t>
            </a:r>
            <a:r>
              <a:rPr b="0" lang="pt-PT" sz="3200" spc="-1" strike="noStrike">
                <a:solidFill>
                  <a:srgbClr val="ffcc00"/>
                </a:solidFill>
                <a:latin typeface="Wide Latin"/>
              </a:rPr>
              <a:t> se complete um 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8:25:09Z</dcterms:created>
  <dc:creator>aluno</dc:creator>
  <dc:description/>
  <dc:language>en-US</dc:language>
  <cp:lastModifiedBy>aluno</cp:lastModifiedBy>
  <dcterms:modified xsi:type="dcterms:W3CDTF">2010-08-25T19:27:42Z</dcterms:modified>
  <cp:revision>3</cp:revision>
  <dc:subject/>
  <dc:title>ESCOLA ESTADUAL SENADOR FILINTO MÜLLER EXTENSÃO</dc:title>
</cp:coreProperties>
</file>